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y%20Did%20You%20Do%20That.wav" ContentType="audio/x-wav"/>
  <Override PartName="/ppt/media/image5.png" ContentType="image/png"/>
  <Override PartName="/ppt/media/image2.gif" ContentType="image/gif"/>
  <Override PartName="/ppt/media/image8.jpeg" ContentType="image/jpeg"/>
  <Override PartName="/ppt/media/image7.png" ContentType="image/png"/>
  <Override PartName="/ppt/media/image9.jpeg" ContentType="image/jpeg"/>
  <Override PartName="/ppt/media/tbesxt.wav" ContentType="audio/x-wav"/>
  <Override PartName="/ppt/media/yeahbaby.wav" ContentType="audio/x-wav"/>
  <Override PartName="/ppt/media/image1.png" ContentType="image/png"/>
  <Override PartName="/ppt/media/chimes.wav" ContentType="audio/x-wav"/>
  <Override PartName="/ppt/media/toldme.wav" ContentType="audio/x-wav"/>
  <Override PartName="/ppt/media/applause.wav" ContentType="audio/x-wav"/>
  <Override PartName="/ppt/media/image6.jpeg" ContentType="image/jpeg"/>
  <Override PartName="/ppt/media/laser.wav" ContentType="audio/x-wav"/>
  <Override PartName="/ppt/media/image4.png" ContentType="image/png"/>
  <Override PartName="/ppt/media/frogcroak.wav" ContentType="audio/x-wav"/>
  <Override PartName="/ppt/media/image3.wmf" ContentType="image/x-wmf"/>
  <Override PartName="/ppt/media/Fanfare3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999-CF43-4684-BDD2-16100757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AA6-0853-49FE-A447-92F8B50F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511-C9AC-4187-8B9E-0751211D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8CE-D22C-498A-8149-CB30AFDD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8B83-F53D-4848-A1F8-95CA42BC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0D03-5D59-410B-8C03-84EED613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116F-04EB-4519-BA1D-3CCA9ECB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1629-382A-4B36-832F-1EA68858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62F7-5644-4DA8-9B25-C11075DE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D02B-9986-4A56-9233-E15049A6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4F61-1F0E-4CA7-8995-F02016F0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9BD-5925-41C4-8BA8-C6B5B5F1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8B31-AB7C-4D2E-A183-A6347E65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4433-C63E-45EA-9C6D-0C3459CA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05FB-5FDE-4BDA-9036-0ED99A49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62AC-1486-4FA2-9C27-FAB2344B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B8FB-7EC7-43EA-B859-D16D8EF8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F94-CC9E-428A-A296-AA7423CB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96D-F141-4EF7-972A-08C3ABDC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B75-5587-4FFC-930E-FE7D03F6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7C2-E261-4592-9AF1-AA2D9AB5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271-DF00-4529-BA7E-F1A4361B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B7C-7FF0-48E5-A763-C88640D2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713-0EAC-4453-8E24-A2191760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02CE-3FBD-408A-9232-12AC47A6E5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3C4F-1BDB-4E0A-8C8C-1D9E736224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audio" Target="../media/Fanfare3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Why%20Did%20You%20Do%20That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audio" Target="../media/yeahbaby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audio" Target="../media/tbesxt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audio" Target="../media/frogcroak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toldme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issa Haden G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d Wall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ne 27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228600"/>
            <a:ext cx="7696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ris and Walter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Our teacher is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cc0000"/>
                </a:solidFill>
                <a:latin typeface="Verdana"/>
              </a:rPr>
              <a:t>beautiful</a:t>
            </a:r>
            <a:r>
              <a:rPr b="0" lang="en-US" sz="119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0415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160" y="3885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Verdana"/>
              </a:rPr>
              <a:t>Someone   ate the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Verdana"/>
              </a:rPr>
              <a:t>apple.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962520"/>
            <a:ext cx="4496040" cy="99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629400" y="533520"/>
            <a:ext cx="2008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160" y="32000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0000"/>
                </a:solidFill>
                <a:latin typeface="Verdana"/>
              </a:rPr>
              <a:t>Someone</a:t>
            </a: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 ate the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pple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629400" y="533520"/>
            <a:ext cx="200808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32763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Will you be my     friend     ?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648320"/>
            <a:ext cx="5105160" cy="1218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3276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32763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Verdana"/>
              </a:rPr>
              <a:t>Will you be my     </a:t>
            </a:r>
            <a:r>
              <a:rPr b="0" lang="en-US" sz="11300" spc="-1" strike="noStrike">
                <a:solidFill>
                  <a:srgbClr val="cc0000"/>
                </a:solidFill>
                <a:latin typeface="Verdana"/>
              </a:rPr>
              <a:t>friend</a:t>
            </a:r>
            <a:r>
              <a:rPr b="0" lang="en-US" sz="1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327672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Look at the word carefully as it flashes on the screen and then we will spell it together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 algn="ctr">
              <a:spcBef>
                <a:spcPts val="43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17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someone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country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friend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nt the words one time as they appear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whe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ie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unt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autifu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beautiful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000000"/>
                </a:solidFill>
                <a:latin typeface="Verdana"/>
              </a:rPr>
              <a:t>somewhere</a:t>
            </a:r>
            <a:endParaRPr b="0" lang="en-US" sz="9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ckey say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2900520" cy="331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0" y="1676520"/>
            <a:ext cx="4114800" cy="1447560"/>
          </a:xfrm>
          <a:prstGeom prst="wedgeEllipseCallout">
            <a:avLst>
              <a:gd name="adj1" fmla="val -55750"/>
              <a:gd name="adj2" fmla="val 10745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20574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Great job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The United States of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merica is a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country    .  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733920"/>
            <a:ext cx="3962520" cy="1295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15000" y="3878280"/>
            <a:ext cx="3124080" cy="1733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95880" y="152280"/>
            <a:ext cx="185436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The United States of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merica is a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cc0000"/>
                </a:solidFill>
                <a:latin typeface="Verdana"/>
              </a:rPr>
              <a:t>country</a:t>
            </a: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81480" y="3581280"/>
            <a:ext cx="3657600" cy="2030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705720" y="228600"/>
            <a:ext cx="185400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32004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Verdana"/>
              </a:rPr>
              <a:t>I know I put that frog somewhere.</a:t>
            </a:r>
            <a:endParaRPr b="0" lang="en-US" sz="7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31768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14600" y="4419720"/>
            <a:ext cx="5791320" cy="13716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1920" y="3200400"/>
            <a:ext cx="8991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Verdana"/>
              </a:rPr>
              <a:t>I know I put that frog </a:t>
            </a:r>
            <a:r>
              <a:rPr b="0" lang="en-US" sz="7500" spc="-1" strike="noStrike">
                <a:solidFill>
                  <a:srgbClr val="cc0000"/>
                </a:solidFill>
                <a:latin typeface="Verdana"/>
              </a:rPr>
              <a:t>somewhere</a:t>
            </a:r>
            <a:r>
              <a:rPr b="0" lang="en-US" sz="6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6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3176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Please go to the  front  of the line.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038480"/>
            <a:ext cx="3733920" cy="10670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31520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560" y="2743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Please go to the </a:t>
            </a:r>
            <a:r>
              <a:rPr b="0" lang="en-US" sz="8800" spc="-1" strike="noStrike">
                <a:solidFill>
                  <a:srgbClr val="cc0000"/>
                </a:solidFill>
                <a:latin typeface="Verdana"/>
              </a:rPr>
              <a:t>front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 of the line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315200" cy="1417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14800" y="3352680"/>
            <a:ext cx="76320" cy="763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16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Our teacher is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beautiful     !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233800" cy="2667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4191120"/>
            <a:ext cx="6400800" cy="1295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24:07Z</dcterms:created>
  <dc:creator>WebMaster</dc:creator>
  <dc:description/>
  <dc:language>en-US</dc:language>
  <cp:lastModifiedBy>default</cp:lastModifiedBy>
  <dcterms:modified xsi:type="dcterms:W3CDTF">2007-06-28T02:55:32Z</dcterms:modified>
  <cp:revision>23</cp:revision>
  <dc:subject/>
  <dc:title>Slide 1</dc:title>
</cp:coreProperties>
</file>